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745-6FC8-4817-9B00-7A3F547F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813-3C27-4DD8-91AF-8F0A9BEC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44F-516D-4BDD-B0AF-2EC6945F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69D-0FB8-490C-827B-336CB47E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948-C085-452E-8073-FA60E09D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49C-5188-4113-B162-5F5AF26D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BC2-0D12-4760-8724-5A01B04F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7DB-86C6-42CC-B364-F31768F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760-10F1-48F6-9F3F-78F8841F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06C-3A31-42EF-8211-C9F6A471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263-7EBD-4E2D-938A-A91DD57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4D6-3430-4FE5-82F7-ABBAF45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DD83-52A5-4502-85D5-00FFFF6E6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过程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过程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09T07:16:34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71</vt:lpwstr>
  </property>
  <property fmtid="{D5CDD505-2E9C-101B-9397-08002B2CF9AE}" pid="3" name="Version">
    <vt:r8>1</vt:r8>
  </property>
</Properties>
</file>