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D41-5EC4-4BE5-8A74-F4CA3259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725F-B028-4570-B928-37A76866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598-B2A5-4696-A3DF-4D9564E4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BC0-86A8-4EAA-9D85-75C6C433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F6F-B18D-407E-81AE-7CE73234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5F7-B6CA-47AF-AADE-18F022F5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A30-D365-42A2-82DB-FC41F29F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2D5-4B90-4323-9556-0684987B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798-4C74-4F7D-A335-13B538EB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ACDF-B8F5-4525-935B-CC5D1A48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ABE-E65C-4A56-ADF9-30E5A131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3CD-3F6C-4ED8-ACB4-3763503F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E6C9-04DA-427B-9F4A-927AB2192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14040" y="838080"/>
            <a:ext cx="73422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XXX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（项目名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验收汇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任  务  来  源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承  担  单  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项 目 负责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汇     报    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 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模板列出了汇报的主要内容和逻辑结构，供汇报单位参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中具体所使用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观、配色、大小等请汇报单位根据自身情况进行编制；要求简洁、清晰、美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单位应根据汇报时间的控制要求，简明扼要突出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汇报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概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实施过程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问题及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项目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项背景及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核的主要指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项目实施过程概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研究方案与技术路线（整体工作思路，主要采取的研究方法、手段、工具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实施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成果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完成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介绍，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技术关键、主要技术经济指标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新点、与国内外同类技术、成果的比较和获奖情况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推广应用前景及经济、社会效益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问题及建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存在问题及有关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71600" y="2136600"/>
            <a:ext cx="632304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汇报完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12-09T07:16:34Z</dcterms:modified>
  <cp:revision>3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71</vt:lpwstr>
  </property>
  <property fmtid="{D5CDD505-2E9C-101B-9397-08002B2CF9AE}" pid="3" name="Version">
    <vt:r8>1</vt:r8>
  </property>
</Properties>
</file>