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F67-1DD6-471B-ADC6-ED23EAC5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683-D983-460C-916A-8C058999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088-E4A6-4320-AE08-C2D4A16F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5E3-D6F1-439C-A8BB-209C14C9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72B-CC54-4A85-8F07-6ADA4FC7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C3F-18DB-40E7-8CBB-9D995AA7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046-04B4-44F8-B341-40E4B268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824-F9BC-49B0-8AF2-666640A4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698-7653-409C-B439-106B3C87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7F4-F4B4-483B-92EA-7544EA26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105-F654-4320-B9C2-80D15715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EBC-7F9F-4E16-B2AE-C5C56E4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3CCC-9A11-4A81-BF41-D9286230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过程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过程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9T07:16:34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71</vt:lpwstr>
  </property>
  <property fmtid="{D5CDD505-2E9C-101B-9397-08002B2CF9AE}" pid="3" name="Version">
    <vt:r8>1</vt:r8>
  </property>
</Properties>
</file>