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B51-C5B7-409C-A225-0B513B69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FAD-38B6-45D4-AA3A-46E20BB2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3E9-2EBE-4595-8CA6-8B828792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149-7A08-4574-83F4-DA65B510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8AE-165A-4D71-ACAB-396562CF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246-545D-470B-A956-0F8635E6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10A-ECD3-42A1-A5D5-6255AA84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C34-A9ED-4EA1-88BB-9248EF21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2145-3D25-45A1-80C4-6EF9535E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BAB-D4BF-4346-ABB2-0F6D7506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357-DBB7-45E4-A893-4D856323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872-FF15-4F73-A679-604CB0C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2FD8-3075-4A0E-886F-755373DB0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7342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（项目名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收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  务  来  源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  担  单  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 目 负责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     报    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 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模板列出了汇报的主要内容和逻辑结构，供汇报单位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中具体所使用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、配色、大小等请汇报单位根据自身情况进行编制；要求简洁、清晰、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单位应根据汇报时间的控制要求，简明扼要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过程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问题及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项背景及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主要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项目实施过程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研究方案与技术路线（整体工作思路，主要采取的研究方法、手段、工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成果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完成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介绍，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技术关键、主要技术经济指标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新点、与国内外同类技术、成果的比较和获奖情况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推广应用前景及经济、社会效益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问题及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存在问题及有关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2136600"/>
            <a:ext cx="6323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汇报完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09T07:16:34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71</vt:lpwstr>
  </property>
  <property fmtid="{D5CDD505-2E9C-101B-9397-08002B2CF9AE}" pid="3" name="Version">
    <vt:r8>1</vt:r8>
  </property>
</Properties>
</file>